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A4BC-07BF-48B6-B649-662CE6951F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2439-5D6A-4BFD-A4F0-288980F1D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2FB7-727B-41D6-8215-973ED0DB7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00DA-F786-460C-AE9E-8D651F286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5C91-D8A5-4492-A451-FD09379DF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ED30-4DCB-422F-A4F0-B697B1250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2D55-36B6-4661-BB09-28D031D7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A3B-3D9B-4571-921C-988540B3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F22-AFA1-4550-A8A0-EA97CB19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B530-B129-41AF-BCE5-82B2C888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323-C07F-480C-806A-139A8B4C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9860-640F-4662-9530-0E7BCC5A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F3DA-8ACB-4512-A281-EBFD2EF1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5F2-3B7C-43E9-8CE4-E1311E26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3BA-A818-4D02-899D-B429454B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8900-4BAE-4EB3-AB3A-63F91DB7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1D9-B946-4CB9-8C65-3AE89A39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0301-AC9B-4C36-8B06-2CFD9F57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D4C0-F311-4022-84C7-51D72457D0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3573-EDE9-4191-8AB9-FC9DC69FC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libri"/>
              </a:rPr>
              <a:t>Wichita Indians of  Tex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signed :By Hailey Bor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752480" y="621180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rs. Sma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20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706480" y="67518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ttp://t1.gstatic.com/images?q=tbn:ANd9GcRbNtrs1vZfyExqjrIfDWpWUP_u2UU08RHFYXgNO4ilkxq9jTlxSQ"/>
          <p:cNvPicPr/>
          <p:nvPr/>
        </p:nvPicPr>
        <p:blipFill>
          <a:blip r:embed="rId1"/>
          <a:stretch/>
        </p:blipFill>
        <p:spPr>
          <a:xfrm>
            <a:off x="2590920" y="1752480"/>
            <a:ext cx="403848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ources I us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 Im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ng. 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p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s For Kids. 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. 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the Wichita Indians liv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chita Indians lived in northern tex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rosie-posie\Desktop\comvil[1].jpg"/>
          <p:cNvPicPr/>
          <p:nvPr/>
        </p:nvPicPr>
        <p:blipFill>
          <a:blip r:embed="rId1"/>
          <a:stretch/>
        </p:blipFill>
        <p:spPr>
          <a:xfrm>
            <a:off x="1447920" y="2362320"/>
            <a:ext cx="6194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the Wichita Indians ate and how they got i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chita Indians were farmers the women stayed at home and grew crops of corns, squash, and pumpk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n would go hunting for deer and  small fo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ichita's daily life activiti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 Wichita  women would stay at home and harvest their food of their cro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n would mostly go out and hunt for deer and small animals for din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id the Wichita Indians believe in and worship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believed in the morning star and the mo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C:\Users\rosie-posie\Desktop\wichhous[1].jpg"/>
          <p:cNvPicPr/>
          <p:nvPr/>
        </p:nvPicPr>
        <p:blipFill>
          <a:blip r:embed="rId1"/>
          <a:stretch/>
        </p:blipFill>
        <p:spPr>
          <a:xfrm>
            <a:off x="2209680" y="2286000"/>
            <a:ext cx="5372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ere the Wichita Indians  know fo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chita Indians are known for their cropp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ould crops all the vegetables you could possibly think of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Rosie-Posie\Desktop\wichita-sm.jpg"/>
          <p:cNvPicPr/>
          <p:nvPr/>
        </p:nvPicPr>
        <p:blipFill>
          <a:blip r:embed="rId1"/>
          <a:stretch/>
        </p:blipFill>
        <p:spPr>
          <a:xfrm>
            <a:off x="4114800" y="3276720"/>
            <a:ext cx="43434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ere the Wichita Indian's traditions and celebra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did the “ghost dance” religion celeb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TonkawanHistory.jpg"/>
          <p:cNvPicPr/>
          <p:nvPr/>
        </p:nvPicPr>
        <p:blipFill>
          <a:blip r:embed="rId1"/>
          <a:stretch/>
        </p:blipFill>
        <p:spPr>
          <a:xfrm>
            <a:off x="2362320" y="2819520"/>
            <a:ext cx="475776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contributions did they give to Texa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gave us many words we use everyday such as caribou, buffalo, and chipmun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eat many vegetables that they grew back then, such as corn and squa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changed for them as settlers arriv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ere used to herd buffa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ot of contagious diseases caused many dea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ere introduces to guns and weap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8:26:15Z</dcterms:created>
  <dc:creator>hailey rose borja</dc:creator>
  <dc:description/>
  <dc:language>en-US</dc:language>
  <cp:lastModifiedBy>Hailey Borja</cp:lastModifiedBy>
  <dcterms:modified xsi:type="dcterms:W3CDTF">2011-10-21T18:49:54Z</dcterms:modified>
  <cp:revision>14</cp:revision>
  <dc:subject/>
  <dc:title>Wichita Indians of  Texas</dc:title>
</cp:coreProperties>
</file>